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E84B7-BF61-4CF1-B7AF-84C62E2D2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141E4-37FC-4A04-B1DA-6EA0F8351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864-3C57-4588-A26B-2D2CD471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BD5-2AF7-44C5-BFD6-F042E957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22F-0EB2-4F63-BEC1-88F3E578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A0B-D1A9-49A4-8A29-4B2690E0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6909-BA07-46C4-8146-7F675248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3A3B-93C9-4E1B-B131-B519A847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92B0-3B84-4DAE-A8A2-66878A76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DF1B-C10C-4A76-8428-72669235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5C8C-ADD6-49DB-95E4-F25C484A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6B7C-C6A2-4881-AA1E-FFA2F227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E7D4-8A74-48E9-B9F0-3BF32F28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B83-3844-483D-BB99-E62EBF66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7BF9-BDEA-417F-BF0E-73598441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17A3-270B-4D56-9A39-CDD3B3B8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1ED0-7487-466B-924B-EAACF1C9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A778-30C1-42C7-952A-1A1FF22F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9037-1458-468C-87D4-E5BEDFB7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87ED-80C1-43E4-BB51-685918F3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69C8-BC6B-4376-9901-E8A808E7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1E18-CEC9-4539-B009-F79E210A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B44F-EC8C-4C39-8FDB-1F95E15C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2080-161A-4EAA-BB4F-1161312B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2EC-AA90-4189-BFE9-B89DC9AF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DB0C-0B7E-4CD6-B946-594C6332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7694-5853-44D4-A204-55457CD7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C400-186B-4B38-BCA8-F9EAAC76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E965-FC9F-4AE4-8457-1CA04D1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42EB-EED5-4FEC-AEBC-FDCB31A9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B2C9-D2CA-4A6F-BC61-6A796717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1F8B-0EC4-4569-8838-49A95085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7B8F-AE4E-4FEE-B134-2F6188E0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CE3E-3E23-4330-8EC7-D9936605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C149-D3EE-4391-9D67-BA3A6E87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23C-8562-4D01-A802-C02F8DBD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CB946-4491-4B16-9A1D-687371A4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91CA-D2D0-4E94-B7D6-5740445F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C36D-8686-48F8-BF56-8AE7FC2B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83AC-F4DD-44BD-AB9C-FA9CE186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4DFD0-7363-45C6-A63F-F53A51E4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6799-6F62-4018-A6A2-42F7376A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A3005-466F-4D5F-AE55-D9FA0809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23F6-B843-4516-A2C9-0E0BABFC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C0678-7308-45AE-AAE4-B98D8C20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3490-B7DB-45B0-A0C2-38E4A714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596-D426-4F6B-953B-2B312618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E97F-7DAC-47AC-AC9E-0A62AD60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F4E64-553C-414F-91EB-1F514A29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D0CB8-F037-45FB-8B47-F1656001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9B183-FACD-4678-92D2-6319E448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8EEE3-49F9-459A-8A1F-1994A986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4E3C-1C5E-46ED-A023-09B36C4E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CC022-7D76-4381-A2D9-E4C4E7A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06AC5-6259-41EA-9807-F50F947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5272-1531-46C7-92BA-2E743AA7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AAD7-24A3-4298-942A-4F155120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DF1-73BC-4120-961A-966955EF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7B090-83A1-4932-B1A1-A700BEE2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71567-F147-4AF6-97CE-5EF33549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03B0-41A8-4BE2-BC10-2AAAE678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D072C-8F0B-4EFD-9B51-8879D11A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B0E1A-12B0-4B51-B43D-B7B8604D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C9D85-36CB-41B3-B1B0-99BF8986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B9648-0C19-4019-B122-7B9B0E66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911AF-3A42-4A80-851B-A14435BF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35832-AABB-4A57-A30D-08CCDC6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31301-A891-409A-AFBC-15BD33F6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617-C0FE-442C-99C1-6D32E020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A24FF-AFFF-4F16-91A6-D921C5F9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BEFFD-091F-4305-8898-88424163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D1B6D-A8EB-447A-A9E8-6EB1E813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79503-DC8A-45D2-98F4-BDCF2CC8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0834E-4F52-4309-B648-262F9D0E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85583-BAC6-4B67-996D-6421A7A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9CF08-F28B-45F8-B7F3-3FD6B164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017E6-AAC6-4B94-B0DD-20640AB1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BE38F-71DB-494A-A8C2-228FB167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05FA3-107E-4D1B-A31B-ABDD5998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36E-D7F3-4C11-A62B-4950E3AE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8E456-0C2E-4E6C-B229-1BD66DC5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5F9C9-9E7D-4DD9-B227-E7579ED0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6635-A25F-4E17-B93D-AFE9656A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6D3C3-AB22-4943-B3FF-E124569C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F1D39-E606-401F-82D7-8AE3BDA8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7D0-7668-4909-BBAD-AC2F511C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C31A1-DDB7-4969-8FA0-CB5E7953D51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078DD-7DF4-499A-A20A-8BA1A9A7C3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D8F69-6D7F-49A4-8773-9739F413FD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1E81C-A851-41A9-BB3E-6934B7B79FC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3D4C8-8209-4755-BB71-26EAF6C0B02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DB353-0D56-4DAD-BC32-C6CDAAB6BE6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31597-2E3E-4A6C-A51E-0536694D38B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3440" cy="16765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PU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ints Possible = 4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es 580-585 =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es 575-579 =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es 567-572 =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60-566 =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4000"/>
          </a:bodyPr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) Mowry-Hofstadter Thesis- idea that progressives were suffering from psychological (not economic) discont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) Progressive reform was about reforming big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) Progressivism was a result of dislocations in American life; rapid changes occurred in the economy but no corresponding changes in social and political institutions. Economic ($) Power moved to big business, but social/political life remained centered in local communitie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resulted in the panic and disorder of the 1890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Date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uary 13, 201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Learning Goa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To explain “how women impacted the Progressive Era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ssential Question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ould an Equal Rights Amendment be Fair to Wome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**What to think about during class**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xit Slip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3 ways women impacted the Progressive Era (due at end of clas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uckrakers-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als of Progressivis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ease hold up a card (0-4) for how well you understand the Learning Goa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Women Impacted the Progressive Era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-360" y="1407600"/>
            <a:ext cx="5559480" cy="5450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8000"/>
          </a:bodyPr>
          <a:p>
            <a:pPr marL="385200" indent="-2804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1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Working Class&amp; Immigrants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- seeking workmen’s compensation, wage and hour law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2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Common people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gainst special interest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3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Decline of political parties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nd rise of interest groups working for specific economic interest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4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Impact of Women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protecting their domestic role in an ever-increasing industrial world (temperance, divorce, prostitution, labor laws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5559480" y="4600440"/>
            <a:ext cx="3570120" cy="2257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5559480" y="1720800"/>
            <a:ext cx="35272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-360" y="1520640"/>
            <a:ext cx="4995720" cy="46256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5000"/>
          </a:bodyPr>
          <a:p>
            <a:pPr marL="372240" indent="-2710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Jane Addams &amp; Hull Hous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dea that poverty and criminality were products of an unhealthy environment (opposite of social Darwinism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Settlement houses provided help to immigrant families (language, customs, etc of America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dea of middle class people “settling” in the inner city and bringing civilization to the fronti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4995720" y="1521000"/>
            <a:ext cx="3937320" cy="2585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4995720" y="4106880"/>
            <a:ext cx="4148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51" name="Content Placeholder 3" descr=""/>
          <p:cNvPicPr/>
          <p:nvPr/>
        </p:nvPicPr>
        <p:blipFill>
          <a:blip r:embed="rId2"/>
          <a:srcRect l="-82677" t="0" r="-82677" b="0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0" y="1774800"/>
            <a:ext cx="89596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ston Marriages- women lived secretly together, often romantic, as women moved into non-traditional ro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NAWSA- National American Woman Suffrage Association; argued giving women voting rights would strengthen temperance mo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Membership grew from 13,000 (1893) to 2 million (1917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6840" y="1774800"/>
            <a:ext cx="46227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92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rly successes in western sta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uaranteed political rights to women throughout the n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Goals: Government shoul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13320" indent="-48348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Assure more democracy in government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13320" indent="-48348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Be more accountable to its citizen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13320" indent="-48348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Reduce the power of wealthy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13320" indent="-48348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Become more efficient and less corrup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13320" indent="-483480">
              <a:spcBef>
                <a:spcPts val="8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ease hold up a card (0-4) for how well you understan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ort Vide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onstitutional amendment that would provide clear, legal protection for their rights and would prohibit all discrimination on the basis of sex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ailed every time up for vo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? Made women essentially like men (eligible for draft/wa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as the Equal Rights Amendment a good or bad ide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ith your neighbors, compile a list of pros and cons of a proposed Equal Rights Amend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581040" indent="-4730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Improving the working conditions of factory labore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581040" indent="-4730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ghting corruption in municipal govern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581040" indent="-4730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Protecting the interests of consume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581040" indent="-4730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Making government more directly responsible to the electora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-360" y="1774800"/>
            <a:ext cx="903132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ed as writers who played a key role in alerting the public to wrongdoing in politics and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Jungl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meatpacking industry in Chicago by Upton Sinclai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Octopu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railroads and farmers (Frank Norri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Shame of the Citie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corrupt urban charities by Lincoln Steffe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Bitter Cry of the Children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use of child labor (John Sparg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287280" y="152532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8000"/>
          </a:bodyPr>
          <a:p>
            <a:pPr marL="385200" indent="-2804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amous Author - journalist and photographer who publicized the wretched conditions in which many immigrants live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rbel"/>
              </a:rPr>
              <a:t>How the Other Half Liv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5319720" y="3838680"/>
            <a:ext cx="3824280" cy="3019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3"/>
          <a:stretch/>
        </p:blipFill>
        <p:spPr>
          <a:xfrm>
            <a:off x="1044720" y="3833640"/>
            <a:ext cx="4275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gressive reformers rejected Social Darwinism because they believed that conflict and competition did not necessarily improve socie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reak from previous era of big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st influential advocate of full political, economic, and social equality for Black Americ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AAC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3795840" y="3498840"/>
            <a:ext cx="5348160" cy="3359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3"/>
          <a:stretch/>
        </p:blipFill>
        <p:spPr>
          <a:xfrm>
            <a:off x="150840" y="3902040"/>
            <a:ext cx="36450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140760" y="1774800"/>
            <a:ext cx="88059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2000"/>
          </a:bodyPr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ivil War / Reconstruction Review Tes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98320" indent="-2235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(write answers on own pap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 I write on the test? NO!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es this count against my grade? NO!!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n why are we doing it? Review for midte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does this relate to the learning goa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98320" indent="-22356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are reviewing the actions of the US government during and after the Civil W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2000"/>
          </a:bodyPr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ding and Analyzing a DBQ on the Atomic Bomb used during World War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 I write on this packet? Y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 I have to write an actual essay? No, this is our way of finishing the unit on World War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does this relate to the learning goal? We are discussing how the President decided to end World War 2 using a very deadly weap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3:11:44Z</dcterms:created>
  <dc:creator>Mark Scacewater</dc:creator>
  <dc:description/>
  <dc:language>en-US</dc:language>
  <cp:lastModifiedBy>Mark Scacewater</cp:lastModifiedBy>
  <dcterms:modified xsi:type="dcterms:W3CDTF">2012-01-15T22:13:37Z</dcterms:modified>
  <cp:revision>20</cp:revision>
  <dc:subject/>
  <dc:title>Progressivism</dc:title>
</cp:coreProperties>
</file>